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47040" y="133200"/>
            <a:ext cx="146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4" marL="176220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5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6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Particles to Pictures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Allen R. Sanders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CI Institute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University of Utah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usion scientists are conducting simulations using particles to model some of the physics that are part of the fusion process.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Hundreds to millions of particles being used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illions planne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articles have both scalar and vector data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articles data is not the only dat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article in Cell Codes  (PIC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calar and Vector dat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71440" y="945720"/>
            <a:ext cx="8609040" cy="529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Needs for the particles: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Queryin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duction of the number down to individual particl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isualiz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 context of other dat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Orbi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7056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Queries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Need to be able access data remotely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No need to schlep millions or billions of particles that are part of thousands of time step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Visualization of the queries (not the particle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y want to have a secondary query based on the original query result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lyph based representation of the particle data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article trails with encoding of data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pot light of data not associated with particle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eal time viewing is an issue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Just what are these particles doing?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urrent interest is whether they move to the inside or outside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opological analysis of their orbit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xtends previous work done for the magnetic field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958680"/>
            <a:ext cx="82724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Issues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urrent frame work in SCIRu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Data is local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Query system is a prototype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ndering of particles in context of other data is slow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GUI is complicate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09T10:25:13Z</dcterms:created>
  <dc:creator>David Weinstein</dc:creator>
  <dc:description/>
  <dc:language>en-US</dc:language>
  <cp:lastModifiedBy>Allen Sanderson Serious Yahoo</cp:lastModifiedBy>
  <cp:lastPrinted>2002-07-07T18:28:39Z</cp:lastPrinted>
  <dcterms:modified xsi:type="dcterms:W3CDTF">2007-10-30T18:49:35Z</dcterms:modified>
  <cp:revision>1250</cp:revision>
  <dc:subject/>
  <dc:title>Geometric Modeling</dc:title>
</cp:coreProperties>
</file>